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371600" y="764280"/>
            <a:ext cx="5028480" cy="377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587600" y="1006560"/>
            <a:ext cx="4595760" cy="344808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1185840" y="4788000"/>
            <a:ext cx="5407200" cy="382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ssumption: All content when dealt with under a reasonable set of abstractions should be addressable in largely the same way. Content has the following concer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chema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Presentation 1.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lationships 0..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orag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alid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12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1000" y="1017720"/>
            <a:ext cx="7115040" cy="5524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Archetyp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ext Generation Content Types for Zope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Transform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8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tent can be the product of complex transformations and this is handled seamlessly by the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upported by a pluggable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27320" indent="-32040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ample supported format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ffice Produ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(Re)Structured Tex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oc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5000" indent="-28440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T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Schem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4880" y="4726080"/>
            <a:ext cx="8334360" cy="199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imple Schema, Including things expected by Zope and 1 additional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chema are active objects and drive the inner workings of the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98600" y="2152800"/>
            <a:ext cx="789300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chema = BaseSchema + Schema((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extField('body'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quired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earchable=1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  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widget  = RichWidget(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       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Schema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 class generator process each object providing hooks into the schema where methods are miss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etBody might transparently map 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elf.Schema()['body'].get(self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means that custom field implementations can support rich behaviors shared across project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Future Direc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Better Transformation interg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TW Schema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ML &lt;-&gt; XMI &lt;-&gt; Arche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XML Schema &lt;-&gt; Arche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Question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so s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sf.net/projects/arche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www.plone.org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cmf.zop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ttp://zope.o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 </a:t>
            </a: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Goal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, reusable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Easy mainten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apid Develo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Solu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imple, flexible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Reasonable default poli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eep separate concerns sepa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rmalized content frame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Implement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mponent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el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get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Field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ields encapsulate the policy of a single data i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ype mapp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Ex: String to date or string to in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Ex: required, vocabulary, search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Field('body'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Widget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lexible, dynamic presentation elements associated with each fiel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efined as ZPT macros and callable through the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Field('body', widget=StringWidget(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etal:use-macro=”python:here.widget('body', mode='view')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Validation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Validation can be handled a number of way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ustom valid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field 'body' implement a method validate_bo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1125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alidation T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tringField('url', validators=('isURL',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Storage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times we know that certain fields require special types of stora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extField('body', strorage=SQLStorage(...)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control if elements appear as ObjectManaged elements or 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ore large objects in files or databases and not ZOD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Times New Roman"/>
                <a:ea typeface="HG Mincho Light J"/>
              </a:rPr>
              <a:t>References</a:t>
            </a:r>
            <a:endParaRPr b="0" lang="en-US" sz="4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39440" y="2101680"/>
            <a:ext cx="8607240" cy="476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ability to explicitly link objects to one ano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define relationships between any Archetypes based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Forward and Backwards 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31640" indent="-32364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racks move, rename, copy, delete as exp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794720" y="6496200"/>
            <a:ext cx="2286000" cy="1063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rcRect l="0" t="0" r="17250" b="17181"/>
          <a:stretch/>
        </p:blipFill>
        <p:spPr>
          <a:xfrm>
            <a:off x="0" y="0"/>
            <a:ext cx="1828800" cy="1116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