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1E8C4-C8A6-42B4-85AF-2A007FD79D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E935E-1E39-4041-AA5C-5324B984FC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4171-AF10-4ACB-BD32-74E3B05AA4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05442-1E29-4780-A845-85CC6D08E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F055-BC93-4DBA-A235-4CA41BC6E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BDF5-4EA7-431E-ABD5-83A831611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BFF76-E98C-4FDC-A5E8-8A1B845AB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10E8-F13A-44AD-A239-CA7F2FE40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FB1E3-7110-4AD0-8C7C-AA91346D4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2F3CF-AF84-4306-9A78-4E86A084A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470CF-186E-4697-845F-FDEEE05FC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FD99B-7CC5-436A-9C14-15DE9C06E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23971-0CB9-4748-931E-BD9D84645C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143000" y="380880"/>
            <a:ext cx="167652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Capt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143000" y="3200400"/>
            <a:ext cx="5791320" cy="20700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1718280" y="3242160"/>
            <a:ext cx="754200" cy="754200"/>
            <a:chOff x="1718280" y="3242160"/>
            <a:chExt cx="754200" cy="754200"/>
          </a:xfrm>
        </p:grpSpPr>
        <p:sp>
          <p:nvSpPr>
            <p:cNvPr id="44" name=""/>
            <p:cNvSpPr/>
            <p:nvPr/>
          </p:nvSpPr>
          <p:spPr>
            <a:xfrm rot="2690400">
              <a:off x="1828800" y="33523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 rot="2689800">
              <a:off x="1828800" y="33519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1143000" y="2100240"/>
            <a:ext cx="5791320" cy="45720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packet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143000" y="1185840"/>
            <a:ext cx="5562720" cy="73188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416720" y="3200400"/>
            <a:ext cx="736560" cy="20574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th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ta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143000" y="5638680"/>
            <a:ext cx="5105520" cy="4572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IC Dri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6765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il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705120" y="4838760"/>
            <a:ext cx="228600" cy="228600"/>
          </a:xfrm>
          <a:prstGeom prst="ellipse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1"/>
            <a:endCxn id="50" idx="2"/>
          </p:cNvCxnSpPr>
          <p:nvPr/>
        </p:nvCxnSpPr>
        <p:spPr>
          <a:xfrm flipH="1" flipV="1">
            <a:off x="2133720" y="4495680"/>
            <a:ext cx="1605240" cy="376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50" idx="0"/>
            <a:endCxn id="45" idx="0"/>
          </p:cNvCxnSpPr>
          <p:nvPr/>
        </p:nvCxnSpPr>
        <p:spPr>
          <a:xfrm flipH="1" flipV="1">
            <a:off x="1718640" y="3620880"/>
            <a:ext cx="415440" cy="417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" name=""/>
          <p:cNvCxnSpPr>
            <a:stCxn id="45" idx="1"/>
            <a:endCxn id="55" idx="2"/>
          </p:cNvCxnSpPr>
          <p:nvPr/>
        </p:nvCxnSpPr>
        <p:spPr>
          <a:xfrm flipV="1">
            <a:off x="1718640" y="1566720"/>
            <a:ext cx="262800" cy="2054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9" idx="0"/>
            <a:endCxn id="48" idx="2"/>
          </p:cNvCxnSpPr>
          <p:nvPr/>
        </p:nvCxnSpPr>
        <p:spPr>
          <a:xfrm flipV="1">
            <a:off x="3695760" y="5257800"/>
            <a:ext cx="4089600" cy="381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9" idx="0"/>
            <a:endCxn id="51" idx="4"/>
          </p:cNvCxnSpPr>
          <p:nvPr/>
        </p:nvCxnSpPr>
        <p:spPr>
          <a:xfrm flipV="1">
            <a:off x="3695760" y="5067360"/>
            <a:ext cx="124200" cy="5716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3238560" y="6477120"/>
            <a:ext cx="91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cke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8" idx="0"/>
            <a:endCxn id="49" idx="2"/>
          </p:cNvCxnSpPr>
          <p:nvPr/>
        </p:nvCxnSpPr>
        <p:spPr>
          <a:xfrm flipV="1">
            <a:off x="3695760" y="6095880"/>
            <a:ext cx="36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0" name=""/>
          <p:cNvSpPr/>
          <p:nvPr/>
        </p:nvSpPr>
        <p:spPr>
          <a:xfrm>
            <a:off x="2513880" y="4819680"/>
            <a:ext cx="124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 Ta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113840" y="487188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NP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81240" y="3886200"/>
            <a:ext cx="735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33880" y="640080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Net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80880" y="1265400"/>
            <a:ext cx="63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632448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57200" y="3048120"/>
            <a:ext cx="5943600" cy="0"/>
          </a:xfrm>
          <a:prstGeom prst="line">
            <a:avLst/>
          </a:prstGeom>
          <a:ln w="284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23880" y="1262160"/>
            <a:ext cx="914400" cy="30456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-buffer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255760" y="320040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5268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Statist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9" name=""/>
          <p:cNvCxnSpPr>
            <a:stCxn id="68" idx="0"/>
            <a:endCxn id="70" idx="2"/>
          </p:cNvCxnSpPr>
          <p:nvPr/>
        </p:nvCxnSpPr>
        <p:spPr>
          <a:xfrm flipV="1">
            <a:off x="3809880" y="914400"/>
            <a:ext cx="15264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1" name=""/>
          <p:cNvCxnSpPr>
            <a:stCxn id="51" idx="0"/>
            <a:endCxn id="68" idx="2"/>
          </p:cNvCxnSpPr>
          <p:nvPr/>
        </p:nvCxnSpPr>
        <p:spPr>
          <a:xfrm flipH="1" flipV="1">
            <a:off x="3809880" y="4495680"/>
            <a:ext cx="10080" cy="3434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0" name=""/>
          <p:cNvSpPr/>
          <p:nvPr/>
        </p:nvSpPr>
        <p:spPr>
          <a:xfrm>
            <a:off x="320040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onito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2" name=""/>
          <p:cNvCxnSpPr>
            <a:stCxn id="55" idx="0"/>
            <a:endCxn id="41" idx="2"/>
          </p:cNvCxnSpPr>
          <p:nvPr/>
        </p:nvCxnSpPr>
        <p:spPr>
          <a:xfrm flipV="1">
            <a:off x="1981080" y="914400"/>
            <a:ext cx="360" cy="3481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"/>
          <p:cNvSpPr/>
          <p:nvPr/>
        </p:nvSpPr>
        <p:spPr>
          <a:xfrm>
            <a:off x="4876920" y="4038480"/>
            <a:ext cx="914400" cy="45720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Dum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Eng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" name=""/>
          <p:cNvCxnSpPr>
            <a:stCxn id="73" idx="0"/>
            <a:endCxn id="75" idx="2"/>
          </p:cNvCxnSpPr>
          <p:nvPr/>
        </p:nvCxnSpPr>
        <p:spPr>
          <a:xfrm flipV="1">
            <a:off x="5334120" y="914400"/>
            <a:ext cx="533520" cy="31244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76" name=""/>
          <p:cNvCxnSpPr>
            <a:stCxn id="51" idx="6"/>
            <a:endCxn id="73" idx="2"/>
          </p:cNvCxnSpPr>
          <p:nvPr/>
        </p:nvCxnSpPr>
        <p:spPr>
          <a:xfrm flipV="1">
            <a:off x="3933720" y="4495680"/>
            <a:ext cx="1400760" cy="4579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5" name=""/>
          <p:cNvSpPr/>
          <p:nvPr/>
        </p:nvSpPr>
        <p:spPr>
          <a:xfrm>
            <a:off x="5105520" y="380880"/>
            <a:ext cx="152388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Lo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715000" y="1589040"/>
            <a:ext cx="99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wpcap.d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5985360" y="3699360"/>
            <a:ext cx="754200" cy="754200"/>
            <a:chOff x="5985360" y="3699360"/>
            <a:chExt cx="754200" cy="754200"/>
          </a:xfrm>
        </p:grpSpPr>
        <p:sp>
          <p:nvSpPr>
            <p:cNvPr id="79" name=""/>
            <p:cNvSpPr/>
            <p:nvPr/>
          </p:nvSpPr>
          <p:spPr>
            <a:xfrm rot="2690400">
              <a:off x="6095880" y="3809520"/>
              <a:ext cx="533160" cy="533520"/>
            </a:xfrm>
            <a:prstGeom prst="blockArc">
              <a:avLst>
                <a:gd name="adj1" fmla="val 9362373"/>
                <a:gd name="adj2" fmla="val 1437627"/>
                <a:gd name="adj3" fmla="val 23620"/>
              </a:avLst>
            </a:prstGeom>
            <a:solidFill>
              <a:srgbClr val="ff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 flipV="1" rot="2689800">
              <a:off x="6095880" y="3809160"/>
              <a:ext cx="533160" cy="533520"/>
            </a:xfrm>
            <a:prstGeom prst="blockArc">
              <a:avLst>
                <a:gd name="adj1" fmla="val 12122108"/>
                <a:gd name="adj2" fmla="val 20277892"/>
                <a:gd name="adj3" fmla="val 23028"/>
              </a:avLst>
            </a:pr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81" name=""/>
          <p:cNvCxnSpPr>
            <a:stCxn id="73" idx="3"/>
            <a:endCxn id="80" idx="0"/>
          </p:cNvCxnSpPr>
          <p:nvPr/>
        </p:nvCxnSpPr>
        <p:spPr>
          <a:xfrm flipV="1">
            <a:off x="5791320" y="4078080"/>
            <a:ext cx="194760" cy="1893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2" name=""/>
          <p:cNvSpPr/>
          <p:nvPr/>
        </p:nvSpPr>
        <p:spPr>
          <a:xfrm>
            <a:off x="6141960" y="3352680"/>
            <a:ext cx="7142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Kern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uff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075000" y="4648320"/>
            <a:ext cx="732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To Dis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0" idx="1"/>
            <a:endCxn id="83" idx="0"/>
          </p:cNvCxnSpPr>
          <p:nvPr/>
        </p:nvCxnSpPr>
        <p:spPr>
          <a:xfrm>
            <a:off x="5985720" y="4078080"/>
            <a:ext cx="455760" cy="5706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447920" y="83808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Struct timeval 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447920" y="1600200"/>
            <a:ext cx="2133360" cy="7621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p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47920" y="2362320"/>
            <a:ext cx="2133360" cy="76176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pf_u_int32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en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= 1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657600" y="838080"/>
            <a:ext cx="380880" cy="2286000"/>
          </a:xfrm>
          <a:custGeom>
            <a:avLst/>
            <a:gdLst>
              <a:gd name="textAreaLeft" fmla="*/ 0 w 380880"/>
              <a:gd name="textAreaRight" fmla="*/ 137520 w 380880"/>
              <a:gd name="textAreaTop" fmla="*/ 59400 h 2286000"/>
              <a:gd name="textAreaBottom" fmla="*/ 222660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47920" y="3733920"/>
            <a:ext cx="2133360" cy="76176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Pack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47920" y="4495680"/>
            <a:ext cx="2133360" cy="762120"/>
          </a:xfrm>
          <a:prstGeom prst="rect">
            <a:avLst/>
          </a:prstGeom>
          <a:solidFill>
            <a:srgbClr val="99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ARGE_INTEGER</a:t>
            </a: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AcceptedBy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33920" y="3733920"/>
            <a:ext cx="304560" cy="1523880"/>
          </a:xfrm>
          <a:custGeom>
            <a:avLst/>
            <a:gdLst>
              <a:gd name="textAreaLeft" fmla="*/ 0 w 304560"/>
              <a:gd name="textAreaRight" fmla="*/ 109800 w 30456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4113720" y="1560600"/>
            <a:ext cx="266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Struct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cap_pkthdr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4527360" y="4083120"/>
            <a:ext cx="18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u_char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(parameter 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25T13:44:03Z</dcterms:created>
  <dc:creator>Loris Degioanni</dc:creator>
  <dc:description/>
  <dc:language>en-US</dc:language>
  <cp:lastModifiedBy>Loris Degioanni</cp:lastModifiedBy>
  <dcterms:modified xsi:type="dcterms:W3CDTF">2002-06-28T12:31:22Z</dcterms:modified>
  <cp:revision>11</cp:revision>
  <dc:subject/>
  <dc:title>Presentazione di PowerPoint</dc:title>
</cp:coreProperties>
</file>